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0B1-B9E0-496E-9367-45A33FFA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298-4147-48BD-8B19-AB1C5352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4A2-2E55-4766-9CF5-347FD517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8BF-03A3-4C98-B04E-855D2A23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B2B-836B-45A3-96FB-71BA64D6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FEF-4FDE-4B44-99DC-546ACCA9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899-0B75-456F-8F77-100E21F6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9ED-F125-45CC-8125-D38431FC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4EE-0B2B-4406-80FF-0E1899B9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BD4-A435-4364-A015-15CA967C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43C-C9A7-447F-AC14-B0C9F399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316-090E-4641-94EA-12A9014C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1431-F8A8-4E84-AE21-AD9DF00B4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MEDIUL LIMBAJULUI DE PROGRAMARE STUD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oordonator Mioara Gheorgh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 codificarea algoritmului în limbajul de programare ales, obţinem un program. Programul este transmis calculatorului prin introducerea textului de la tastatură (editare) şi memorat într-un fişier sursă cu extensia pas pentru limbajul Pascal (exemplu: program1.cpp) sau extensia cpp pentru limbajul C/C++ (exemplu: program1.cpp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duce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extului de program din limbajul de programare ales în limbajul intern al calculatorului se face de către compilator prin compilare. Compilatorul realizează și verificarea sintactică a programului, semnalând erorile detecta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rectarea erorilor se face prin editare, de la tastatură, fiind urmată de o nouă compilare. Când textul programului nu mai conţine nicio eroare, compilatorul generează un fişier obiect cu extensia obj (exemplu: program1.obj). Fişierul obiect este executat prin comanda R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oferi programatorilor accesul la fişiere şi la resursele de editare, compilare şi execuţie, au fost dezvoltate mediile de programar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tele cu care lucrează un program pot fi memorate în fişierele text. Astfel se asigură păstrarea datelor şi reducerea timpului de operare la testarea/utilizarea program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 fişier text este format dintr-o succesiune de caractere ASCII scrise pe una sau mai multe linii (rânduri), pe memorie externă (disc). Sfârşitul fişierului este marcat de o etichetă specială: EOF (End Of File). Prelucrarea unui fişier se face prin mai multe operaţii: deschidere (pentru citire sau scriere), citire, scriere, închide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tretch/>
        </p:blipFill>
        <p:spPr>
          <a:xfrm>
            <a:off x="5410080" y="182880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e prop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introduc n+m numer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A din primele n valor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B din următoarele m valo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verifice dacă o valoare oarecare x, introdusă de la tastatură, apa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i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R ca reuniune dintr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le A și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levi lucrează împreună la un proiect pentru ora de istorie. Fiecare s-a documentat şi a întocmit o listă cu cele mai importante evenimente istorice. În proiect, trebuie prezentat o singură dată fiecare eveniment istoric, în ordine cronologic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Întocm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ele două liste cu cel mult 10 evenimente isto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Verificaţi dacă cele două liste pot fi interclas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bţineţi lista finală prin interclasarea celor două l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ă se determine dacă un an oarecare, A, aparţine listei de eveni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un program care să rezolve cerinţele de la punctele a,b,c şi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cunosc rezultatele la Olimpiada de informatică pentru trei şcoli. Numărul de participanţi din fiecare şcoală este n1,n2, respectiv n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entru obţinerea clasamentului fiecărei şc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rin care să se obţină clasamentul pentru toate şcol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ficienţa algoritmului propu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6:24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